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DEBF6-8E1D-4697-884C-9B40EEEB7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AE8E7-61F2-45D9-871D-985CAA141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EF37A-A175-4422-A700-8586FA50D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2728C-4363-45D9-A846-342E9C582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19811-8143-4BEE-9DE2-909F58720F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F8F6D-FBE3-4C71-A0D5-D09C294F3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D4924-799A-4FE0-BF7D-FD9695C57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5D6DE-92A8-41D2-B09D-EF4E92300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CF68E-B622-47C0-B070-C69DD0439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8681F-D9AB-4365-8779-33CDCD548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4B194-7D52-4411-8CC4-9707024D3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C5BD9-467D-48B0-B2D1-4B043967F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BADD9-CDA1-4E47-B020-8DEE0AF6F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B9FB9-09AC-4218-9D46-CB001DA4F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B65FE-7B13-4414-ACEA-784F0ACC0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9D72C-8CD8-4E15-AD72-F410B5732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71B436-9BCB-4AE3-99A6-3D084D5B7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3A6EC-E500-4E11-91A9-9E5633E6A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E5AF9-16D2-4E01-8612-860A52515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4E6AD-B821-41D7-9E67-2E9947E5E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CECA-D10D-4D50-99E4-1F770B656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6698-77E0-4944-BD5C-503F95F32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4A2CF-9113-4D34-9F5D-7E883E17F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45EE-B38B-43EC-942D-DA9BE71E7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FF60-6922-4208-B644-6D28B7295923}"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DC6C-176D-4D98-9C90-9E1B49265AA4}"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peranza Rising</a:t>
            </a:r>
            <a:endParaRPr b="0" lang="en-US" sz="4400" spc="-1" strike="noStrike">
              <a:solidFill>
                <a:srgbClr val="ffcc66"/>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Zach Konieczn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ory Critique</a:t>
            </a:r>
            <a:endParaRPr b="0" lang="en-US" sz="4400" spc="-1" strike="noStrike">
              <a:solidFill>
                <a:srgbClr val="ffcc66"/>
              </a:solidFill>
              <a:latin typeface="Times New Roman"/>
            </a:endParaRPr>
          </a:p>
        </p:txBody>
      </p:sp>
      <p:sp>
        <p:nvSpPr>
          <p:cNvPr id="12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 thought Esperanza Rising  was very good.  I think so because it shows the struggles of everyday life.</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 think people who like coming of age books should read this.  I also recommend this book for ages 12-16.</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f you want to know what appens to Abuelita, Mama,Esperanza and the rest of the gang, read the book!</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peranza</a:t>
            </a:r>
            <a:endParaRPr b="0" lang="en-US" sz="4400" spc="-1" strike="noStrike">
              <a:solidFill>
                <a:srgbClr val="ffcc66"/>
              </a:solidFill>
              <a:latin typeface="Times New Roman"/>
            </a:endParaRPr>
          </a:p>
        </p:txBody>
      </p:sp>
      <p:sp>
        <p:nvSpPr>
          <p:cNvPr id="106"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Mama would give her something she had made: linens, camisoles or blouses embroidered with her beautiful needlework” (pg. 10)</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he was rich and spoiled and wore dresses all the time</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he was beautiful but stubborn</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guel</a:t>
            </a:r>
            <a:endParaRPr b="0" lang="en-US" sz="4400" spc="-1" strike="noStrike">
              <a:solidFill>
                <a:srgbClr val="ffcc66"/>
              </a:solidFill>
              <a:latin typeface="Times New Roman"/>
            </a:endParaRPr>
          </a:p>
        </p:txBody>
      </p:sp>
      <p:sp>
        <p:nvSpPr>
          <p:cNvPr id="108"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There is more than one way to get what you want in this country.  Maybe I must be more determined than others to succeed, but I know that will happen.”  (pg. 222-223)</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sonality Trait.</a:t>
            </a:r>
            <a:endParaRPr b="0" lang="en-US" sz="3200" spc="-1" strike="noStrike">
              <a:solidFill>
                <a:srgbClr val="eaeaea"/>
              </a:solidFill>
              <a:latin typeface="Times New Roman"/>
            </a:endParaRPr>
          </a:p>
          <a:p>
            <a:pPr marL="343080" indent="-343080">
              <a:lnSpc>
                <a:spcPct val="90000"/>
              </a:lnSpc>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quote explains that Miguel is determined and ready to  face both bad and good tim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ma</a:t>
            </a:r>
            <a:endParaRPr b="0" lang="en-US" sz="4400" spc="-1" strike="noStrike">
              <a:solidFill>
                <a:srgbClr val="ffcc66"/>
              </a:solidFill>
              <a:latin typeface="Times New Roman"/>
            </a:endParaRPr>
          </a:p>
        </p:txBody>
      </p:sp>
      <p:sp>
        <p:nvSpPr>
          <p:cNvPr id="11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Times New Roman"/>
              </a:rPr>
              <a:t>Mama slept and didn't wake even to say hello” (pg. 177).</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sonality Trait.</a:t>
            </a:r>
            <a:endParaRPr b="0" lang="en-US" sz="3200" spc="-1" strike="noStrike">
              <a:solidFill>
                <a:srgbClr val="eaeaea"/>
              </a:solidFill>
              <a:latin typeface="Times New Roman"/>
            </a:endParaRPr>
          </a:p>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quote shows that Mama is sick and doesn’t wake up much once she sleep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 Rancho de las Rosas </a:t>
            </a:r>
            <a:endParaRPr b="0" lang="en-US" sz="4400" spc="-1" strike="noStrike">
              <a:solidFill>
                <a:srgbClr val="ffcc66"/>
              </a:solidFill>
              <a:latin typeface="Times New Roman"/>
            </a:endParaRPr>
          </a:p>
        </p:txBody>
      </p:sp>
      <p:sp>
        <p:nvSpPr>
          <p:cNvPr id="112"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Times New Roman"/>
              </a:rPr>
              <a:t>Because she couldn’t imagine living anywhere other than El Rancho de las Rosas.” (pg. 8)</a:t>
            </a: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as home to Esperanza and was full of roses and grapes.</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3" name="images" descr=""/>
          <p:cNvPicPr/>
          <p:nvPr/>
        </p:nvPicPr>
        <p:blipFill>
          <a:blip r:embed="rId1"/>
          <a:stretch/>
        </p:blipFill>
        <p:spPr>
          <a:xfrm>
            <a:off x="152280" y="1447920"/>
            <a:ext cx="4356360" cy="2889000"/>
          </a:xfrm>
          <a:prstGeom prst="rect">
            <a:avLst/>
          </a:prstGeom>
          <a:ln w="0">
            <a:noFill/>
          </a:ln>
        </p:spPr>
      </p:pic>
      <p:pic>
        <p:nvPicPr>
          <p:cNvPr id="114" name="images" descr=""/>
          <p:cNvPicPr/>
          <p:nvPr/>
        </p:nvPicPr>
        <p:blipFill>
          <a:blip r:embed="rId2"/>
          <a:stretch/>
        </p:blipFill>
        <p:spPr>
          <a:xfrm>
            <a:off x="152280" y="4343400"/>
            <a:ext cx="4343400" cy="239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xican Camp Reserve a.k.a. The Camp</a:t>
            </a:r>
            <a:endParaRPr b="0" lang="en-US" sz="4400" spc="-1" strike="noStrike">
              <a:solidFill>
                <a:srgbClr val="ffcc66"/>
              </a:solidFill>
              <a:latin typeface="Times New Roman"/>
            </a:endParaRPr>
          </a:p>
        </p:txBody>
      </p:sp>
      <p:sp>
        <p:nvSpPr>
          <p:cNvPr id="116" name="PlaceHolder 2"/>
          <p:cNvSpPr>
            <a:spLocks noGrp="1"/>
          </p:cNvSpPr>
          <p:nvPr>
            <p:ph/>
          </p:nvPr>
        </p:nvSpPr>
        <p:spPr>
          <a:xfrm>
            <a:off x="4660560" y="166536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In her room, she sat on the edge of the cot.  Her face flushed again at the thought of the ridicule.</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The Camp” was a Mexican work reserve for immigrants when they came to America in the 1930’s.  They had Jamacas (a type of party) on Saturdays.</a:t>
            </a:r>
            <a:endParaRPr b="0" lang="en-US" sz="2400" spc="-1" strike="noStrike">
              <a:solidFill>
                <a:srgbClr val="eaeaea"/>
              </a:solidFill>
              <a:latin typeface="Times New Roman"/>
            </a:endParaRPr>
          </a:p>
        </p:txBody>
      </p:sp>
      <p:pic>
        <p:nvPicPr>
          <p:cNvPr id="117" name="images" descr=""/>
          <p:cNvPicPr/>
          <p:nvPr/>
        </p:nvPicPr>
        <p:blipFill>
          <a:blip r:embed="rId1"/>
          <a:stretch/>
        </p:blipFill>
        <p:spPr>
          <a:xfrm>
            <a:off x="990720" y="1981080"/>
            <a:ext cx="3581280" cy="2683080"/>
          </a:xfrm>
          <a:prstGeom prst="rect">
            <a:avLst/>
          </a:prstGeom>
          <a:ln w="0">
            <a:noFill/>
          </a:ln>
        </p:spPr>
      </p:pic>
      <p:pic>
        <p:nvPicPr>
          <p:cNvPr id="118" name="images" descr=""/>
          <p:cNvPicPr/>
          <p:nvPr/>
        </p:nvPicPr>
        <p:blipFill>
          <a:blip r:embed="rId2"/>
          <a:stretch/>
        </p:blipFill>
        <p:spPr>
          <a:xfrm>
            <a:off x="990720" y="4638600"/>
            <a:ext cx="3581280" cy="221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Problem 1: The House Fire</a:t>
            </a:r>
            <a:endParaRPr b="0" lang="en-US" sz="4400" spc="-1" strike="noStrike">
              <a:solidFill>
                <a:srgbClr val="ffcc66"/>
              </a:solidFill>
              <a:latin typeface="Times New Roman"/>
            </a:endParaRPr>
          </a:p>
        </p:txBody>
      </p:sp>
      <p:sp>
        <p:nvSpPr>
          <p:cNvPr id="12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apa passed away and Tio Luis wants to marry Mama  because she is so loved.  Mama rejects Luis’ offer and he burns their home and grapes.  Talk about anger management issue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blem 2:Moving to the camp and working.</a:t>
            </a:r>
            <a:endParaRPr b="0" lang="en-US" sz="4400" spc="-1" strike="noStrike">
              <a:solidFill>
                <a:srgbClr val="ffcc66"/>
              </a:solidFill>
              <a:latin typeface="Times New Roman"/>
            </a:endParaRPr>
          </a:p>
        </p:txBody>
      </p:sp>
      <p:sp>
        <p:nvSpPr>
          <p:cNvPr id="122"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ma, Miguel, Esperanza, Hortensia, Alfonso,  and  Mama escape Tio Luis and work in America.  Esperanza is not trained for work, causing a major problem.</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blem 3: Mama’s Sickness </a:t>
            </a:r>
            <a:endParaRPr b="0" lang="en-US" sz="4400" spc="-1" strike="noStrike">
              <a:solidFill>
                <a:srgbClr val="ffcc66"/>
              </a:solidFill>
              <a:latin typeface="Times New Roman"/>
            </a:endParaRPr>
          </a:p>
        </p:txBody>
      </p:sp>
      <p:sp>
        <p:nvSpPr>
          <p:cNvPr id="12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ma got caught in a dust storm, and  she got Valley Fever.  Valley Fever is caused by dust spores getting into the body, from the dust storm.  Esperanza and everyone else  must work twice as hard due to this sicknes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3:53:39Z</dcterms:created>
  <dc:creator>Zach</dc:creator>
  <dc:description/>
  <dc:language>en-US</dc:language>
  <cp:lastModifiedBy>Zach</cp:lastModifiedBy>
  <dcterms:modified xsi:type="dcterms:W3CDTF">2011-01-13T14:22:13Z</dcterms:modified>
  <cp:revision>14</cp:revision>
  <dc:subject/>
  <dc:title>Esperanza Rising</dc:title>
</cp:coreProperties>
</file>